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1EF28-509E-4872-9CE5-83C3B6DA9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99D39-0884-4F34-9D7A-39BB070CF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C7EF3-FAF3-4D26-9CBE-DABD7402B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CF98B-86E6-4B99-848B-AE77A03E8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CD7BB-C9CE-4423-A766-9FF18992B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D12A9-1B12-48BF-BD42-A5C61F392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A8963-9BE9-4B83-B89E-662AB8C30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B1310-982D-4B49-BB12-670FE59E9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3A0C8-D14E-4FC5-B5F6-536DD5B41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CA213-86FB-46D1-BCD5-138F39148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707FE-6E34-4ED4-A535-1E948785C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98C1B-722B-4CDF-97F8-5ED7FB609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7AE80-2192-43E0-BA66-9C2F9E6C7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A18B3-504A-4606-B2D4-C5FC39951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A34B5-C3FE-48E9-860E-17C290BAE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29157-FA44-4960-81B4-921C6B164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810CC-B76B-442D-B64B-07DD28269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E0ABE-B7A7-418A-9C2F-6903B0ACA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68EBE-FF5E-46E7-9A3B-1712D55C3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098A1-E4C9-470A-AC46-A2E1C7A5D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B5C40-E139-4F49-A689-ED12261F0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34119-83E4-4E74-8FA1-D4131706A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E4B1B-0C55-4803-BC54-49AF92F7C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13D64-E70E-46C7-A4EF-672A14A4C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49755-051D-4A89-8048-5019B5B76FA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43CC9-711B-4E7F-ADF8-5DD5815936F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8016"/>
          <a:stretch/>
        </p:blipFill>
        <p:spPr>
          <a:xfrm>
            <a:off x="3610080" y="147600"/>
            <a:ext cx="5533920" cy="66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eaders and tail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control protocols not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of multiplexed lin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ne channel receiver can not receive data, the others must carry 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rresponding source must be quenc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leaves empty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are detected and handled by individual channel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Link Control on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16412"/>
          <a:stretch/>
        </p:blipFill>
        <p:spPr>
          <a:xfrm>
            <a:off x="228600" y="1373040"/>
            <a:ext cx="8915400" cy="54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lag or SYNC characters bracketing TDM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provide synchroniz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ed digit fr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control bit added to each TDM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oks like another channel - “control channel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able bit pattern used on contro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lternating 01010101…unlikely on a data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mpare incoming bit patterns on each channel with sync patter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- Synchronizing data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in different sources drif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from different sources not related by simple rational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- Pulse Stuff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going data rate (excluding framing bits) higher than sum of incoming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 extra dummy bits or pulses into each incoming signal until it matches loc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ed pulses inserted at fixed locations in frame and removed at demultiplex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of Analog and Digital Sour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990720" y="1362240"/>
            <a:ext cx="7238880" cy="54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T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/Canada/Japan use 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use a similar (but different)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ystem based on DS-1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s 24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has 8 bits per channel plus one framing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3 bits per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voice each channel contains one word of digitized data (PCM, 8000 samples per se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8000x193 = 1.54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ve out of six frames have 8 bit PCM samp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frame is 7 bit PCM word plus signaling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bits form stream for each channel containing control and rout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f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channel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7 bits per frame plus indicator bit for data or systems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4th channel is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xed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S-1 can carry mixed voice and data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 channel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ync by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interleave DS-1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s-2 is four DS-1 giving 6.31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User Network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 allows multiplexing of devices over single ISDN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interfa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rcRect l="0" t="0" r="0" b="33455"/>
          <a:stretch/>
        </p:blipFill>
        <p:spPr>
          <a:xfrm>
            <a:off x="457200" y="2048040"/>
            <a:ext cx="8305920" cy="222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 exchanged between subscriber and NTE - 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line for each 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 cod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=no voltage, 0=positive or negative 750mV +/-10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access is two 64kbps B channels and one 16kbps D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144kbps multiplexed over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capacity used for framing and 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channel is basic iser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64kbps connections o different destin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 channel used for control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4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every 25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7539"/>
          <a:stretch/>
        </p:blipFill>
        <p:spPr>
          <a:xfrm>
            <a:off x="76320" y="1433520"/>
            <a:ext cx="89154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supporting PB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.54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S DS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T1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.04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European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e coding is AMI using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1432"/>
          <a:stretch/>
        </p:blipFill>
        <p:spPr>
          <a:xfrm>
            <a:off x="152280" y="1428840"/>
            <a:ext cx="8839440" cy="44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/SD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Optical Network (ANS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Digital Hierarchy (ITU-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Hierarc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 Transport Signal level 1 (STS-1) or Optical Carrier level 1 (OC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 DS-3 or group of lower rate signals (DS1 DS1C DS2) plus ITU-T rates (e.g. 2.048Mbp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STS-1 combined into STS-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U-T lowest rate is 155.52Mbps (STM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14519"/>
          <a:stretch/>
        </p:blipFill>
        <p:spPr>
          <a:xfrm>
            <a:off x="533520" y="1447920"/>
            <a:ext cx="8001000" cy="50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STS-1 Overhead Oct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14655"/>
          <a:stretch/>
        </p:blipFill>
        <p:spPr>
          <a:xfrm>
            <a:off x="685800" y="1380960"/>
            <a:ext cx="7696080" cy="53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ynchronous TDM many slots are wa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stical TDM allocates time slots dynamically based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r scans input lines and collects data until frame fu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n line lower than aggregate rates of input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2310"/>
          <a:stretch/>
        </p:blipFill>
        <p:spPr>
          <a:xfrm>
            <a:off x="457200" y="1447920"/>
            <a:ext cx="8229600" cy="47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bandwidth of medium exceeds required bandwidth of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ignal is modulated to a different carri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frequencies separated so signals do not overlap (guard band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broadcast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data rate less than aggregate inpu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ause problems during peak peri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ffer inp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buffer size to minimum to reduc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ffer Siz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d D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4258"/>
          <a:stretch/>
        </p:blipFill>
        <p:spPr>
          <a:xfrm>
            <a:off x="3627360" y="0"/>
            <a:ext cx="5516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mmetrical Digital Subscriber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currently installed twisted pair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broader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MHz or mo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Desig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capacity downstream than upstr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st 25kHz for v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in old telephone service (PO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cho cancellation or FDM to give two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FDM within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5.5k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Channel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15960"/>
          <a:stretch/>
        </p:blipFill>
        <p:spPr>
          <a:xfrm>
            <a:off x="2209680" y="1447920"/>
            <a:ext cx="4791240" cy="52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screte Multito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M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carrier signals at different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bits on eac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kHz sub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test signal and use subchannels with better signal to noise rat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6 downstream subchannels at 4kHz (60kbp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5.3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airments bring this down to 1.5Mbps to 9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MT Transm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12856"/>
          <a:stretch/>
        </p:blipFill>
        <p:spPr>
          <a:xfrm>
            <a:off x="838080" y="1371600"/>
            <a:ext cx="739152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DS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lin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y 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58869"/>
          <a:stretch/>
        </p:blipFill>
        <p:spPr>
          <a:xfrm>
            <a:off x="1143000" y="1447920"/>
            <a:ext cx="693432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6879"/>
          <a:stretch/>
        </p:blipFill>
        <p:spPr>
          <a:xfrm>
            <a:off x="3618000" y="76320"/>
            <a:ext cx="5526000" cy="67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FDM of Three Voiceband Signals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9170"/>
          <a:stretch/>
        </p:blipFill>
        <p:spPr>
          <a:xfrm>
            <a:off x="2209680" y="1433520"/>
            <a:ext cx="44672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&amp;T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FDM sche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 voice channels  (4kHz each) = 4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60kHz to 10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0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M of 5 group signals on carriers between 420kHz and 612 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t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 super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f medium exceeds data rate of digital signal to be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digital signals interleaved i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t bit level of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preassigned to sources and 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do not have to be evenly distributed amongst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46681" r="0" b="11220"/>
          <a:stretch/>
        </p:blipFill>
        <p:spPr>
          <a:xfrm>
            <a:off x="685800" y="1365120"/>
            <a:ext cx="670572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13:02:06Z</dcterms:created>
  <dc:creator>Adrian &amp; Wendy</dc:creator>
  <dc:description/>
  <dc:language>en-US</dc:language>
  <cp:lastModifiedBy>Adrian J Pullin</cp:lastModifiedBy>
  <dcterms:modified xsi:type="dcterms:W3CDTF">1999-10-13T14:41:13Z</dcterms:modified>
  <cp:revision>27</cp:revision>
  <dc:subject/>
  <dc:title>William Stallings Data and Computer Communications</dc:title>
</cp:coreProperties>
</file>